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12BD-1441-48B7-AF43-D93ABB8D0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8B6E-A9E7-4283-9145-01300EDD0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 05/05 calls member state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for transition to universal coverage …to meeting the needs of the population for health care… to attaining internationally agreed development goals, including those contained in the United Nations Millennium Declar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blic financing for basic health services is essential to aim at universal coverage and especially pro-poor fair fina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specific preventive and treatment interventions which can reduce the burden of disease and premature deaths (some 10m in ACP region?)while socio-economic conditions take their time to reduce risk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MH : comprehensive package of essential services (including HIV/AIDS) costs € 24-32 pc and year in low-income countries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(similar BHCP costing analysis in Zambia : € 18/2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AFE-2D99-41F8-A593-48FB2BB7F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financing under CMH threshold : 70 countries, with a total gap € 42,2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ountries were to allocate 15% of their government's budgets to health (Abuja target, OCDE average)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public funding form domestic sources would be € 25,6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50 countries -35 are ACP (34 in Africa)-, would still face a gap of € 13,4 b (10 b for A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spects of economic growth, would reduce gradually that gap but needs would also raise (non-communicable diseases, AI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181-7ADF-47E0-B384-C97087EA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B7D-060C-41C3-B4CB-5BA39771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41D-C70B-4DA9-AC37-3236ED06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FBE-D4DB-4523-A1FE-85C1A0AF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78A-49C4-47D7-A9E6-5675DB7D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610-A1F8-4104-A4EB-968C7F57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1D4-8D8D-41C7-BA18-4B471378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24A-98D4-4FCE-9955-FBCC054F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991-4138-4349-B5C5-18F83CDB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BCA-7451-4077-B759-24C8BF83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7EF-47D7-4A5A-BBE2-88B0FE6B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065-0090-48E3-8273-AADB9C1A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7324-B5CC-40D3-8B59-8B5275C45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nhancing EC’s contribution to address 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hild and maternal undernutrition and its causes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 </a:t>
            </a:r>
            <a:br>
              <a:rPr sz="28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C strategies and financial instrumen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pproach from the health sector</a:t>
            </a:r>
            <a:br>
              <a:rPr sz="2800"/>
            </a:br>
            <a:br>
              <a:rPr sz="2800"/>
            </a:b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Juan Ga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Health team coordina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Responsible for policies and programmes on children in external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G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Health and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19640" y="1341360"/>
            <a:ext cx="26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Infections  : low intake, weight loss, micronutrients’ deficit (eg. malaria : low birth 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Malnutrition : poor immunity, increased morbidity and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806480"/>
            <a:ext cx="4038480" cy="4111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59280" y="2781360"/>
            <a:ext cx="360360" cy="2303280"/>
          </a:xfrm>
          <a:custGeom>
            <a:avLst/>
            <a:gdLst>
              <a:gd name="textAreaLeft" fmla="*/ 48240 w 360360"/>
              <a:gd name="textAreaRight" fmla="*/ 312120 w 360360"/>
              <a:gd name="textAreaTop" fmla="*/ 402840 h 2303280"/>
              <a:gd name="textAreaBottom" fmla="*/ 167004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7956720" y="2637000"/>
            <a:ext cx="444240" cy="2520720"/>
          </a:xfrm>
          <a:custGeom>
            <a:avLst/>
            <a:gdLst>
              <a:gd name="textAreaLeft" fmla="*/ 59400 w 444240"/>
              <a:gd name="textAreaRight" fmla="*/ 384840 w 444240"/>
              <a:gd name="textAreaTop" fmla="*/ 441000 h 2520720"/>
              <a:gd name="textAreaBottom" fmla="*/ 182772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 and the health sector :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ed : minimum thresholds for public financ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blic financing for basic health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ssential to aim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and equi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verage and especially pro-poor fair finan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pecific preventive and treatment interventions which can reduce the burden of disease and prevent premature death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ile socio-economic conditions take their time to reduce risk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H : comprehensive package of essential services (including HIV/AIDS) cost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€ 24-32 pc and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low-income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ilar BHCP costing analysis in several ACP count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ap and “potential gap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Public financing gap under CMH threshold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countries, with a total gap € 42,2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untries were to alloca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ir government's budgets to health (Abuja target)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public funding form domestic sources would be € 25,6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50 countries 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 ACP (34 in Afr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, would still face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ap of € 13,4 b (10 b for AC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55640" y="4759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Abuja space, </a:t>
            </a:r>
            <a:br>
              <a:rPr sz="3600"/>
            </a:b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but qual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49720" cy="586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84720" y="1906560"/>
            <a:ext cx="4402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80773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83908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CTION PLAN (2008-2010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IMPLEMENTATION OF THE AFRICA-EU STRATEGIC PARTNERSHIP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entify joint actions to strengthen district and national health systems, including participatory and action-led health management information systems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elimination of fees for basic health ca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strengthening preventive health care systems and health education, and stronger involvement of civil society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The response of health systems in ACP countries: financing capa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219320"/>
          <a:ext cx="8229600" cy="5135400"/>
        </p:xfrm>
        <a:graphic>
          <a:graphicData uri="http://schemas.openxmlformats.org/drawingml/2006/table">
            <a:tbl>
              <a:tblPr/>
              <a:tblGrid>
                <a:gridCol w="1785960"/>
                <a:gridCol w="1314360"/>
                <a:gridCol w="1282680"/>
                <a:gridCol w="1249200"/>
                <a:gridCol w="1347840"/>
                <a:gridCol w="12495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financing gap for health (in annual million €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gap per capi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financing gap for health (in annual million €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gap per capi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i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.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agas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7.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rkina Fas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8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aw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rund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.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i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ou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ritani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al African R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zambiq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.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.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ger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3.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ge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go (RD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0.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ua new Guine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tre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wand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iop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3.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eg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mbi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erra Leon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.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ha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4.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ali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.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ne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.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dan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nea Biss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go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t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and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.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ory Coa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.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mb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.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y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6.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imbabw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e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.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g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062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uffic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Fragm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llig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dic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AC data on healtjh ODA vs. </a:t>
            </a: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« potential financing gap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16000" y="1484280"/>
          <a:ext cx="725184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84280"/>
                    <a:ext cx="72518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292720" y="4508640"/>
            <a:ext cx="28814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$ 3.5 b for Heath general / basic (2.8) vs &gt; $ 8  b for HIV/AI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he facts – MDG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1916280"/>
            <a:ext cx="93636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287172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3640" y="923760"/>
            <a:ext cx="2655720" cy="57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2514600" cy="467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1989000"/>
            <a:ext cx="72108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2565360"/>
            <a:ext cx="4334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084720" y="981000"/>
            <a:ext cx="2835360" cy="585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56360" y="1700280"/>
            <a:ext cx="2616120" cy="288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764480" y="3357720"/>
            <a:ext cx="1379520" cy="298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867280" y="4581360"/>
            <a:ext cx="20113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ealth needs/ODA/gap vs </a:t>
            </a: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IDS needs/ODA/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537080" cy="309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32000" y="4653000"/>
            <a:ext cx="3167280" cy="1917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24360" y="2349360"/>
            <a:ext cx="1079640" cy="2311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0" lang="fr-BE" sz="900" spc="-1" strike="noStrike">
                <a:solidFill>
                  <a:srgbClr val="000000"/>
                </a:solidFill>
                <a:latin typeface="Arial"/>
              </a:rPr>
              <a:t>54 b by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Health system fragm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&gt; 100 global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dvocacies by problems, isolated funding gap analysis (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consolidated &gt; 30 b!),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vertical approaches, duplication and opportunity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 case of a safe delivery : bas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Vs. divided into?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1 : reducing low birth weight and mal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4 : reducing neonatal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5 : SRHRs : reducing maternal de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6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AIDS : PMT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Malaria : AN PrT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Tb : 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amb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budget for the health secto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4868640"/>
            <a:ext cx="761832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lth sector funding is heavily dependant on external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te budget is estimated at 27 % and external funds accounts for 73 % of the health sector funds (2008). The total amount of funds for the health sector is estimated to be 512.1 millions US$ ( 2008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4200" y="1628640"/>
          <a:ext cx="5500440" cy="291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4200" y="1628640"/>
                    <a:ext cx="550044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 Mod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219320"/>
          <a:ext cx="845820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45820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zamb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762120"/>
          <a:ext cx="8058240" cy="54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80582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508720" y="2997360"/>
            <a:ext cx="2376360" cy="1726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2708280"/>
            <a:ext cx="1800360" cy="30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Paris? Which Pari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evels of health 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229600" cy="3948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979640" y="4365720"/>
            <a:ext cx="576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365720"/>
            <a:ext cx="576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C healt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1052640"/>
          <a:ext cx="8229600" cy="5132160"/>
        </p:xfrm>
        <a:graphic>
          <a:graphicData uri="http://schemas.openxmlformats.org/drawingml/2006/table">
            <a:tbl>
              <a:tblPr/>
              <a:tblGrid>
                <a:gridCol w="5200920"/>
                <a:gridCol w="1009440"/>
                <a:gridCol w="1009800"/>
                <a:gridCol w="10094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ed EC ODA financing for 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/E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ACP 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in America 2007-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1 2007-2010 health,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2007-2010 Middle-East, Caucasus, Central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sting in peo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a ACP (330 2008-20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arch on poverty related diseases, EDC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 programmed health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8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8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8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support/E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ACP budget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1 2007-2010 budget support,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aragua G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2007-2010 Middle-East, Caucasus, Central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programmed budget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Countries where health is a focal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P (4%/ GBS):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Liberia, Ivory Coast, DRC, Angola, Zimbabwe, Burundi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had,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ast Timor, Hait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Lesotho, Swaziland, South Africa, Zambia, Mozambiq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a (17%):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fghanistan, Burm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India, Philippines, Vietnam,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in America (Soc cohesion):Honduras and Ecu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th Africa /Middle East and Eastern Europe (8,8%): Algeria, Morocco, Egypt, Syria, Libya, Yemen, Ukraine, Moldova, Georgi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matic EC health support:</a:t>
            </a:r>
            <a:br>
              <a:rPr sz="28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pter under investing in people :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ood health for al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key health iss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sis in human resources in health care (21m, 07-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ngthen Europe's role in addressing the main poverty-related diseases such as HIV/AIDS, malaria and tuberculosis and  neglected diseases and emerging health threats (235 m 07-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xual and reproductive health and rights (SRHR) (41 m 07-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d approach between prevention, treatment and care, including attention to the burden of non-communicable diseases and tobacco contr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003640" y="1268280"/>
          <a:ext cx="3240360" cy="5092920"/>
        </p:xfrm>
        <a:graphic>
          <a:graphicData uri="http://schemas.openxmlformats.org/drawingml/2006/table">
            <a:tbl>
              <a:tblPr/>
              <a:tblGrid>
                <a:gridCol w="1630440"/>
                <a:gridCol w="160992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s 2007 - 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for 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tion and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der e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aspects of human &amp; socia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 and socila cohesioj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and y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Times New Roman"/>
              </a:rPr>
              <a:t>Reduce fra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itiatives for SWAP “revival”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Level Forum on Health MDGs (HL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8 communiqué on scaling up for health in Afric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 Health Partnership (IH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 Campaign on Health MDG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alytic Initiative to Save a Million Liv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scaling up for better health" (by the so-called "H8" : The Gates Foundation, GAVI Alliance, Global Fund to Fight AIDS, Tuberculosis and Malaria, UNAIDS, UN Population Fund, UNICEF, World Health Organization and the World Bank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s Based Financing in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VI health systems window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FATM modalities for health systems sup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Count down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these initiatives aim at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better coordination of development assista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increased investment in health systems strengthen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o accelerate the achievement of the health MDG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rinciples of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Alma-Ata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ommunity participation and development of basic health care delivery integrated with disease control) and of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Sector Wide Approach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together with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equitable, adequate and predictable levels of global ODA for heal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are gradually being recognized as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cornerstones to any health developm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Nutrition and risk of il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ain risk factor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Nutrition : 25%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Sexual behaviour :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Water and sanitation : 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in-door air-pollution : 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lifestyle factors : 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ew evide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Social inquities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 (CSD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nvironmental and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climate change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threats (IP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11640" y="836640"/>
          <a:ext cx="441792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836640"/>
                    <a:ext cx="4417920" cy="422748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88000" y="5091120"/>
            <a:ext cx="2930400" cy="17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EC Budget support and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dvantages / Impac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duces fragmentattion/fungibility* and increases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*Has induced (through incentive tranches) increased national budget allocation to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isadvantages/failur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 some cas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Not increased allocations (esp. If high inf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Not increased net allocations (low execution 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quires adequate level (*) and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*In 10 African countries, the level required of GBS, at 15% health allocation, to meet CMH, would be 4 times the national fiscal revenues… : exceptional acse for health vs. Celings on social/public spend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79280" y="260280"/>
          <a:ext cx="8964720" cy="6456240"/>
        </p:xfrm>
        <a:graphic>
          <a:graphicData uri="http://schemas.openxmlformats.org/drawingml/2006/table">
            <a:tbl>
              <a:tblPr/>
              <a:tblGrid>
                <a:gridCol w="977760"/>
                <a:gridCol w="534960"/>
                <a:gridCol w="725760"/>
                <a:gridCol w="479160"/>
                <a:gridCol w="905040"/>
                <a:gridCol w="1477800"/>
                <a:gridCol w="725760"/>
                <a:gridCol w="928440"/>
                <a:gridCol w="479520"/>
                <a:gridCol w="825480"/>
                <a:gridCol w="905040"/>
              </a:tblGrid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 BUDGET SUPPORT/GRADUAL AL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SUPPORT/AL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 H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 HS/ga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 H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 BS/ga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had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8,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urund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3,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n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5,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esot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ngo (RD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2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law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4,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ast Tim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ozambiqu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5,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vory Coas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7,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amib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iber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6,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Zamb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3,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,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iger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1,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7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wazi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Beni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1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U 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32,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Zimbabw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2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Burkina Fa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48,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3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Central African Rep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95,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amerou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0,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,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10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Ethiop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913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omo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2,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Gambi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1,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ritre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3,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Ghan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4,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uine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3,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G Bissa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,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4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uritani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8,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99,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pua new Guine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4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,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Keny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446,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ali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37,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Madagascar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97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udan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3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Mali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01,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go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41,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Niger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3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26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wand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0,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eneg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21,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erra Leone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19,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2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Tanz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Ugand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639,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6038,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0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73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Total GB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4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quitable ODA for heal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427640" cy="2870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3927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ing “aid orphans” : Division of labou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2007 Code of Conduct on Division of Labour in Development Policy , includes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ross-sector complement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It includes addressing the “orphans”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3300"/>
                </a:solidFill>
                <a:latin typeface="Times New Roman"/>
              </a:rPr>
              <a:t>EC vs MS added value in heal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Progress on D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“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donor darl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countries — lik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urkina Faso, Ghana, Kenya, Mali, Mozambique, Senegal, Vietn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ordination is fairly goo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the principles of the Code are not yet being appli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o many donors by sector (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In Mali, more than 26 donors are active in rural development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more than three sectors of concentration per donor and very limited use of implementation instruments (e.g. delegated cooperation, co-financing, silent partnership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“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orphan” countr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— such a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go-Brazzaville, Madagascar, RCA and Tog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— the picture is more une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logue among donors is often less coordin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entives for DoL are limited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.e. few donors, many needs, and the principles are sometimes not applicable (e.g. no country leadership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d practices are observed in some countries — such as in Chad and Niger — in particular in post-conflict countries where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oordination is deemed necessar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such as in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ôte d’Ivoire, Togo, and Leban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n Vietna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the EC will concentrate 80% of its aid for 2007-2010 in two sectors of concentration (general budget support and capacity building in the health sector). The remaining 20% will be dedicated to non-focal sectors (trade and governa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munity add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uropean Consensus has refined the definition of the Community’s comparative advantages in a two-step appro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institutional level, the Commission will aim to provide </a:t>
            </a: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added value through the following element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global presence; (lead in many “fragile states”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policy coherence; promotion of development best practice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facilitation of coordination and harmonis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ivery in 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areas where size and critical m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ion of 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democracy, human rights, good governance and respect for international la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 special attention paid to transparency and anti-corruption; and the facilitation of dialogue with local economic and social interest partn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EDF support is usually concentrated in four sectors, except in fragile, post-crisis countries. The main ones 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general budget suppor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40% of countries, around 30% of volum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infrastructure, including water/energ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60% of countries, around 30% of volum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governance, including peace/securit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60% of countries, around 15% of volum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rural development and agricul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30% of countries, around 8% of volu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sectors receive relatively modest direct support (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8% to specific health and education in 10 ED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Potential EC added value in health ? (ongoing evaluations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Arial"/>
              </a:rPr>
              <a:t>On-budget support and links to health dialogue/inputs/resul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Arial"/>
              </a:rPr>
              <a:t>Health in fragile states/LR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Arial"/>
              </a:rPr>
              <a:t>Links to health of infrastrcutures, social governance, rural develop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re predictable ai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verage, aid flows are at least six times more volatile than fiscal revenues. The relative volatility of aid is highest for the most aid-dependent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DG Contract offers long-term predictability in return for greater commitment to results by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G-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: “to improve the effectiveness of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udget supp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ccelerating progress towards the MDGs by increasing its long term predictability and focussing on resul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udget suppo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strument. Other instruments will be needed where budget support is not appropr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…to catalyse improvements in delivery of budget support from other budget support providers, while remaining within existing harmonisation frame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DG”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ong focus on the MDGs, notably health and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act”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tual responsibilities: more predictability for enhanced focus on (and financial commitment to) MD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hard financial engagements set out in signed financia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Overview – core features, common to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x year time frame (cf 3 yrs at pre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 least [80%] of total commitment to be disbursed,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ubject t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breach in  eligibility/ criteria or fundamental/essential elements (cf average 65% “fixed” at pre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xed annual disbursements, subject to adjustment at mid-contract review (cf. annual FT and V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al monitoring, and reinforced dialogue (cf partial VT or delayed 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fety valve” ([10%]) to respond to eligibility concerns (as opposed to breach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ed at strong perfor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Main areas for country flex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asing of the [80%] fixed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chanism for translating assessments of performance into financing decision for second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ice of indicators (focus on outcomes and PF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ready program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EDF10 CSP and compliant with standard GBS eligibility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track record of GBS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um term framework for assessing performance with  active donor coordination mechani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count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nin, Burkina Faso, Ghana, Madagascar, Mali, Mozambique, Rwanda, Tanzania, Uganda, and Zamb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of all EDF 10 GBS, 16% of EDF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gibility to be formally assessed and confirmed during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847960" cy="4337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56360" y="1197000"/>
            <a:ext cx="2689200" cy="464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76720" y="2060640"/>
            <a:ext cx="261144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EC opportunities in aid effectiveness in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evel : EU « conveeining » &gt; EC as do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Fragmentation : On-budget + 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ty : Division of labou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lignment : PRBS +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dictability : MD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The wide health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revention : multisectr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Social inequities : sustainable human development, </a:t>
            </a:r>
            <a:r>
              <a:rPr b="0" lang="fr-BE" sz="1400" spc="-1" strike="noStrike">
                <a:solidFill>
                  <a:srgbClr val="ff0000"/>
                </a:solidFill>
                <a:latin typeface="Arial"/>
              </a:rPr>
              <a:t>right to health and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0000"/>
                </a:solidFill>
                <a:latin typeface="Arial"/>
              </a:rPr>
              <a:t>Opportuniti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00"/>
                </a:solidFill>
                <a:latin typeface="Arial"/>
              </a:rPr>
              <a:t>Rural development doubled aid in 10 E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00"/>
                </a:solidFill>
                <a:latin typeface="Arial"/>
              </a:rPr>
              <a:t>Attention to governance : including social 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844640"/>
          <a:ext cx="8076960" cy="2747880"/>
        </p:xfrm>
        <a:graphic>
          <a:graphicData uri="http://schemas.openxmlformats.org/drawingml/2006/table">
            <a:tbl>
              <a:tblPr/>
              <a:tblGrid>
                <a:gridCol w="1346040"/>
                <a:gridCol w="1677960"/>
                <a:gridCol w="1295280"/>
                <a:gridCol w="1159200"/>
                <a:gridCol w="1252440"/>
                <a:gridCol w="13460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ri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door 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ual behavi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rowth monitoring? IEC,EPI+,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, IM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, IM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, V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sec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ural dev,</a:t>
                      </a: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food security, education(IEC, school feed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 dev,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od sec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 dev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, gover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inks of child health and nutrition in EC development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5761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Health systems : poor promotion/prioritization  of nutrition (factors </a:t>
            </a: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beyond health sector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, population-data through DHS/others –low frequen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Rural development : grossly </a:t>
            </a: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disconnected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from health systems </a:t>
            </a: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monitoring of nutrition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and micronutrients’ programmes (weak health systems, interface of IEC from education/health sector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0000"/>
                </a:solidFill>
                <a:latin typeface="Arial"/>
              </a:rPr>
              <a:t>Opportunity : greater attention to rural development in 10 EDF; predictability of MDGc and links with results, eg malnutr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6594840" y="2774160"/>
            <a:ext cx="2592360" cy="733320"/>
          </a:xfrm>
          <a:custGeom>
            <a:avLst/>
            <a:gdLst>
              <a:gd name="textAreaLeft" fmla="*/ 453600 w 2592360"/>
              <a:gd name="textAreaRight" fmla="*/ 1879560 w 25923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125129"/>
                <a:lnTo>
                  <a:pt x="20823" y="12062"/>
                </a:lnTo>
                <a:lnTo>
                  <a:pt x="17280" y="21600"/>
                </a:lnTo>
                <a:lnTo>
                  <a:pt x="12183" y="12062"/>
                </a:lnTo>
                <a:lnTo>
                  <a:pt x="14343" y="12062"/>
                </a:lnTo>
                <a:arcTo wR="7560" hR="21600" stAng="-3274871" swAng="-176769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1042400">
            <a:off x="610920" y="1699920"/>
            <a:ext cx="733320" cy="273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478440 h 2735280"/>
              <a:gd name="textAreaBottom" fmla="*/ 19832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C Food security and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 term objectives to eradicate food insecurity, will only be met through nationally owned and developed poverty reduction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graphical instruments (EDF, DCI and ENPI) at national and regional lev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 aid, as a humanitarian tool, managed by 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 Security Thematic Programme (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ood security budget line : € &gt;440 m in 2006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ress food security issues at global continental and regional 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e in those countries where the geographical instrument cannot be fully utilis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C Food aid and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 ECHO food aid is mainly implemented by the World Food Programme that received nearly 150 /220  million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trition interventions are implemented mainly by UNICEF and some specialized NGO like ACF, MSF or SCF.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1600" y="236520"/>
            <a:ext cx="8739360" cy="638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32360" y="6418440"/>
            <a:ext cx="4010040" cy="43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6:22:22Z</dcterms:created>
  <dc:creator>garayju</dc:creator>
  <dc:description/>
  <dc:language>en-US</dc:language>
  <cp:lastModifiedBy>Lebret</cp:lastModifiedBy>
  <dcterms:modified xsi:type="dcterms:W3CDTF">2008-12-02T14:20:46Z</dcterms:modified>
  <cp:revision>11</cp:revision>
  <dc:subject/>
  <dc:title>The EC approach to health support  and the relation with the public financing gap </dc:title>
</cp:coreProperties>
</file>